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47E-BB22-4C3E-B041-FB9C5DE9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DC5-953D-44D7-B9DD-04857F38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D09-E701-47A8-B6B1-7B4804E0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AE7-E473-47EB-8BFD-A6FF2695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1A4CD-D9E1-4E38-90A5-FF4E23E7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A94C8-7E0C-42BA-B4E9-60186CC2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226D2-3C83-4A90-B49A-C22A23A5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DA3A0-9587-4E93-BFB6-2DEA5744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9A62A-EC44-47C7-B586-E1597494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82F9D-C099-4D75-BD47-B0B2280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4115A-9AE7-4C29-B325-03C83A26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D80-07E6-4714-B723-F1592977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81BF9-AD46-48E2-A738-00AE850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54B9E-BFE9-45A6-B9FB-E6C99EFE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8B838-7590-49E3-9111-61A15C1D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5C50E-838E-4E43-B5D6-CFBAF025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35EF5-0286-42CD-A34D-47D1B0C1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6B1-0455-4348-B26E-97AE86CA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6BE-72D0-45C2-BBB0-61BED0BE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7BC-0F3B-4F09-8C1D-C739C8B6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292-15B6-4851-87EC-D6D5C0D9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BB6-DE4A-496B-B9EB-3A3D65A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56B-5AF6-4709-B8B3-0296893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CAB-B75B-4B62-912F-32F4487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5FE7-F722-4371-83F8-404FDAADEF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833-E12C-46F9-91BE-B0584C1890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n_(subculture)" TargetMode="External"/><Relationship Id="rId2" Type="http://schemas.openxmlformats.org/officeDocument/2006/relationships/hyperlink" Target="http://en.wikipedia.org/wiki/Halbstarke" TargetMode="External"/><Relationship Id="rId3" Type="http://schemas.openxmlformats.org/officeDocument/2006/relationships/hyperlink" Target="http://www.trueknowledge.com/q/what_does_lan_mean_in_turkish" TargetMode="External"/><Relationship Id="rId4" Type="http://schemas.openxmlformats.org/officeDocument/2006/relationships/hyperlink" Target="http://en.wikipedia.org/wiki/Goth_girl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ean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comic"/>
              </a:rPr>
              <a:t>Cultural diversity</a:t>
            </a:r>
            <a:r>
              <a:rPr b="0" lang="en-US" sz="4800" spc="-1" strike="noStrike">
                <a:solidFill>
                  <a:srgbClr val="00ffcc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comic"/>
              </a:rPr>
              <a:t>in German</a:t>
            </a:r>
            <a:r>
              <a:rPr b="0" lang="en-US" sz="4800" spc="-1" strike="noStrike">
                <a:solidFill>
                  <a:srgbClr val="00ffcc"/>
                </a:solidFill>
                <a:latin typeface="comic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comic"/>
              </a:rPr>
              <a:t>speaking countr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Garamond Pro Bold"/>
              </a:rPr>
              <a:t>Subcul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Garamond Pro Bold"/>
              </a:rPr>
              <a:t>By: Emily P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Garamond Pro Bold"/>
              </a:rPr>
              <a:t>Period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en.wikipedia.org/wiki/Lan_(subcul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en.wikipedia.org/wiki/Halbstar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trueknowledge.com/q/what_does_lan_mean_in_turk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en.wikipedia.org/wiki/Goth_gi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lbsta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bstarke is a term describing a post-war subculture of adolescents-mostly male and of working class parents-that appeared in public in an aggressive and provocative way during the 1950’s in Germany, Austria, and Switzer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bstarke literally means “half strong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Halbstarke riots occurred after concerts or cinema screen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bstarke found prototypes for their fashion and style in American mov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, the Halbstarke wore a quiff,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ea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hecked shirts and leather jacke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 subculture draws many similarities with pimp life-style of hip h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n is characterized by his physical appearance (extravagant hair, beard styling, body building, and sunbed tan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 means “buddy” in Turk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s share many aesthetic characteristics with the British chav sub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 came to mean "guy", "dude", etc. in Germa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ufti[e]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nglish, Grufti means “vault or tomb creature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ubculture of “goths” became popular during the early 1990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th subculture has associated tastes in music, aesthetics, and fash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ufti are the German “goth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hic music encompasses a number of different styles including Gothic Rock, Darkwave, Deathrock, Ethereal, Neo-Medieval and Neoclassic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lbstarke Pic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54240" y="1600200"/>
            <a:ext cx="4834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ufti[e] Pic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600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ufti[e] Picture Cont’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235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dobe Garamond Pro Bold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What does “halbstarke”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What does Grufti[e]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dobe Garamond Pro Bold"/>
              </a:rPr>
              <a:t>Answ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Half-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Vault or Tomb Cre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7:25:37Z</dcterms:created>
  <dc:creator>SCSadmin</dc:creator>
  <dc:description/>
  <dc:language>en-US</dc:language>
  <cp:lastModifiedBy>SCSadmin</cp:lastModifiedBy>
  <dcterms:modified xsi:type="dcterms:W3CDTF">2011-10-13T17:46:32Z</dcterms:modified>
  <cp:revision>10</cp:revision>
  <dc:subject/>
  <dc:title>Cultural diversity in German speaking countries</dc:title>
</cp:coreProperties>
</file>